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332-44AB-49FA-ACB8-D249DD4F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6A9-5381-46C8-BA37-7041A506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F49-96E3-423D-92A2-F5096237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01B-E0CC-489C-93DF-49EE8045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BC2-E2F6-4EF5-B75B-500BD129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B30-84AF-4D75-BB7A-AAC4298D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892-84E4-48AC-90CE-604F7FB4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51B-1AC1-4154-9178-C5A98E1F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595-1E41-439A-A1CE-02B91692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248-6096-4891-86F9-02BC9B14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913-0925-420E-8D35-92EF3D6A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845-3EC2-445D-874B-3EB06D1D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64DD-8125-48B1-8CC2-7F8F6D172BD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SYK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1280" y="500040"/>
            <a:ext cx="7818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yktywkar ist eine Industriestad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14200" y="214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na Vero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071680" y="1142640"/>
            <a:ext cx="37292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s Furnierwerk wurde 1976 geöffnet. Es ist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ner der größten Produzenten des Furniers und der Möbelplatte auf der Holzgrundlage in Russ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szf1.JPG"/>
          <p:cNvPicPr/>
          <p:nvPr/>
        </p:nvPicPr>
        <p:blipFill>
          <a:blip r:embed="rId1"/>
          <a:stretch/>
        </p:blipFill>
        <p:spPr>
          <a:xfrm>
            <a:off x="0" y="0"/>
            <a:ext cx="5079960" cy="33908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about_2.jpg"/>
          <p:cNvPicPr/>
          <p:nvPr/>
        </p:nvPicPr>
        <p:blipFill>
          <a:blip r:embed="rId2"/>
          <a:stretch/>
        </p:blipFill>
        <p:spPr>
          <a:xfrm>
            <a:off x="214200" y="364320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about_3.jpg"/>
          <p:cNvPicPr/>
          <p:nvPr/>
        </p:nvPicPr>
        <p:blipFill>
          <a:blip r:embed="rId3"/>
          <a:stretch/>
        </p:blipFill>
        <p:spPr>
          <a:xfrm>
            <a:off x="2928960" y="464328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743360" y="785880"/>
            <a:ext cx="4400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e Gesellschaft “Syktywkar Tissju Grup” ist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iner der führenden Produzenten des Toilettenpapiers und des Papiers-Grundlage der sanitär-hygienischen Bestimmung. Im Jahre 1987 wurde die erste Rolle des Toilettenpapiers ausgegeb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company.jpg"/>
          <p:cNvPicPr/>
          <p:nvPr/>
        </p:nvPicPr>
        <p:blipFill>
          <a:blip r:embed="rId1"/>
          <a:stretch/>
        </p:blipFill>
        <p:spPr>
          <a:xfrm>
            <a:off x="0" y="857160"/>
            <a:ext cx="500076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ct80_103_0(1).jpg"/>
          <p:cNvPicPr/>
          <p:nvPr/>
        </p:nvPicPr>
        <p:blipFill>
          <a:blip r:embed="rId1"/>
          <a:stretch/>
        </p:blipFill>
        <p:spPr>
          <a:xfrm>
            <a:off x="428760" y="407196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ct76_385_0(1).jpg"/>
          <p:cNvPicPr/>
          <p:nvPr/>
        </p:nvPicPr>
        <p:blipFill>
          <a:blip r:embed="rId2"/>
          <a:stretch/>
        </p:blipFill>
        <p:spPr>
          <a:xfrm>
            <a:off x="5357880" y="3071880"/>
            <a:ext cx="3786120" cy="37861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ct81_104_0(1).jpg"/>
          <p:cNvPicPr/>
          <p:nvPr/>
        </p:nvPicPr>
        <p:blipFill>
          <a:blip r:embed="rId3"/>
          <a:stretch/>
        </p:blipFill>
        <p:spPr>
          <a:xfrm>
            <a:off x="5334120" y="28584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ct334_386_0.jpg"/>
          <p:cNvPicPr/>
          <p:nvPr/>
        </p:nvPicPr>
        <p:blipFill>
          <a:blip r:embed="rId4"/>
          <a:stretch/>
        </p:blipFill>
        <p:spPr>
          <a:xfrm>
            <a:off x="0" y="0"/>
            <a:ext cx="5357880" cy="4017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143240" y="1000080"/>
            <a:ext cx="478656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r Holzbearbeitungsbetrieb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ist einer der größten Produzenten des Sägeholzes in Republik der Komi.  Am 10. August 1926 wurde in den Betrieb der erste Rahme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 Holzbearbeitungsbetriebs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von Ust-Syssolsk gestart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3" descr="_DSC2260.jpg"/>
          <p:cNvPicPr/>
          <p:nvPr/>
        </p:nvPicPr>
        <p:blipFill>
          <a:blip r:embed="rId1"/>
          <a:stretch/>
        </p:blipFill>
        <p:spPr>
          <a:xfrm>
            <a:off x="0" y="3635280"/>
            <a:ext cx="4357800" cy="32227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828px-Логотип_СыктывкарскийЛДК.png"/>
          <p:cNvPicPr/>
          <p:nvPr/>
        </p:nvPicPr>
        <p:blipFill>
          <a:blip r:embed="rId2"/>
          <a:stretch/>
        </p:blipFill>
        <p:spPr>
          <a:xfrm>
            <a:off x="1285920" y="0"/>
            <a:ext cx="25318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s Hausbaukombinat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st ein Produzent der hölzernen Gebäude und der Räume. Es wurde 2008 gegründ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chit_zavod_01_09.jpg"/>
          <p:cNvPicPr/>
          <p:nvPr/>
        </p:nvPicPr>
        <p:blipFill>
          <a:blip r:embed="rId1"/>
          <a:stretch/>
        </p:blipFill>
        <p:spPr>
          <a:xfrm>
            <a:off x="1714680" y="2143080"/>
            <a:ext cx="5786280" cy="4346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251130.jpeg"/>
          <p:cNvPicPr/>
          <p:nvPr/>
        </p:nvPicPr>
        <p:blipFill>
          <a:blip r:embed="rId1"/>
          <a:stretch/>
        </p:blipFill>
        <p:spPr>
          <a:xfrm>
            <a:off x="5357880" y="3571920"/>
            <a:ext cx="3286080" cy="23810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townha01.jpg"/>
          <p:cNvPicPr/>
          <p:nvPr/>
        </p:nvPicPr>
        <p:blipFill>
          <a:blip r:embed="rId2"/>
          <a:stretch/>
        </p:blipFill>
        <p:spPr>
          <a:xfrm>
            <a:off x="2500200" y="428760"/>
            <a:ext cx="3714840" cy="24796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pict-0001.jpg"/>
          <p:cNvPicPr/>
          <p:nvPr/>
        </p:nvPicPr>
        <p:blipFill>
          <a:blip r:embed="rId3"/>
          <a:stretch/>
        </p:blipFill>
        <p:spPr>
          <a:xfrm>
            <a:off x="500040" y="3500280"/>
            <a:ext cx="3405240" cy="2554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84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 Fabrik des Faservlies “Komiteks” ist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ührer in der Produk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 Faservlies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nd der synthetischen Faser in Russland. Sie wurde 1979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öff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DSC00855.JPG"/>
          <p:cNvPicPr/>
          <p:nvPr/>
        </p:nvPicPr>
        <p:blipFill>
          <a:blip r:embed="rId1"/>
          <a:stretch/>
        </p:blipFill>
        <p:spPr>
          <a:xfrm>
            <a:off x="1785960" y="242892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4" descr="linoleum-zagn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306a7522af64f716e3bd3678edabdcc0.jpg"/>
          <p:cNvPicPr/>
          <p:nvPr/>
        </p:nvPicPr>
        <p:blipFill>
          <a:blip r:embed="rId2"/>
          <a:stretch/>
        </p:blipFill>
        <p:spPr>
          <a:xfrm>
            <a:off x="0" y="3357720"/>
            <a:ext cx="5251320" cy="35002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8" descr="b40e1eff.jpg"/>
          <p:cNvPicPr/>
          <p:nvPr/>
        </p:nvPicPr>
        <p:blipFill>
          <a:blip r:embed="rId3"/>
          <a:stretch/>
        </p:blipFill>
        <p:spPr>
          <a:xfrm>
            <a:off x="1000080" y="3571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1014208.jpeg"/>
          <p:cNvPicPr/>
          <p:nvPr/>
        </p:nvPicPr>
        <p:blipFill>
          <a:blip r:embed="rId4"/>
          <a:stretch/>
        </p:blipFill>
        <p:spPr>
          <a:xfrm>
            <a:off x="5572080" y="3786120"/>
            <a:ext cx="2511360" cy="245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00040" y="164268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ese Betriebe sind die Hauptproduzenten nicht nur in Syktywkar, sondern auch in der Republik der Komi und einige sogar in Russlan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515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Syktywkar gibt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 nicht wenige Fabriken, Werke, Kombinate, Betriebe.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 größte Industriebetrieb ist der Syktywkarer Holzindustriekomplex “Mondi” in dem Eshwaer Stadtbezi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1big.jpg"/>
          <p:cNvPicPr/>
          <p:nvPr/>
        </p:nvPicPr>
        <p:blipFill>
          <a:blip r:embed="rId1"/>
          <a:stretch/>
        </p:blipFill>
        <p:spPr>
          <a:xfrm>
            <a:off x="1643040" y="2357280"/>
            <a:ext cx="614376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7168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 dem Bau wurde 1963 begonn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 25. Juni 1969 wurde der Syktywkar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zindustriekomplex geöffn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chronograph1971_Syktyvkarski_LPK.jpg"/>
          <p:cNvPicPr/>
          <p:nvPr/>
        </p:nvPicPr>
        <p:blipFill>
          <a:blip r:embed="rId1"/>
          <a:stretch/>
        </p:blipFill>
        <p:spPr>
          <a:xfrm>
            <a:off x="0" y="3143160"/>
            <a:ext cx="5286240" cy="37148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foto4.jpg"/>
          <p:cNvPicPr/>
          <p:nvPr/>
        </p:nvPicPr>
        <p:blipFill>
          <a:blip r:embed="rId2"/>
          <a:stretch/>
        </p:blipFill>
        <p:spPr>
          <a:xfrm>
            <a:off x="5286240" y="3143160"/>
            <a:ext cx="385776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85840" y="50004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f dem Betrieb wird das bekannte Büropapier, das Zeitungspapier, die Pappe ausgegeb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f20110714100837-snegurochka.jpg"/>
          <p:cNvPicPr/>
          <p:nvPr/>
        </p:nvPicPr>
        <p:blipFill>
          <a:blip r:embed="rId1"/>
          <a:stretch/>
        </p:blipFill>
        <p:spPr>
          <a:xfrm>
            <a:off x="0" y="2357280"/>
            <a:ext cx="4905360" cy="4286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PE_Film_Paper.jpg"/>
          <p:cNvPicPr/>
          <p:nvPr/>
        </p:nvPicPr>
        <p:blipFill>
          <a:blip r:embed="rId2"/>
          <a:stretch/>
        </p:blipFill>
        <p:spPr>
          <a:xfrm>
            <a:off x="6286680" y="4071960"/>
            <a:ext cx="2857320" cy="27860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ppr-karton.jpg"/>
          <p:cNvPicPr/>
          <p:nvPr/>
        </p:nvPicPr>
        <p:blipFill>
          <a:blip r:embed="rId3"/>
          <a:stretch/>
        </p:blipFill>
        <p:spPr>
          <a:xfrm>
            <a:off x="4572000" y="52149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20" y="-214200"/>
            <a:ext cx="814392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 Syktywkarer Holzindustriekomplex “Mondi” wird für siene Arbeiter gesorg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f Grund vom Betrieb befinden sich die Poliklinik, wo  hochqualifizierte Ärzte arbeiten und wo es die neueste, moderne Ausrüstung gibt, das prophylaktische Betriebssanatorium “Vita”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5" descr="img477.jpg"/>
          <p:cNvPicPr/>
          <p:nvPr/>
        </p:nvPicPr>
        <p:blipFill>
          <a:blip r:embed="rId1"/>
          <a:stretch/>
        </p:blipFill>
        <p:spPr>
          <a:xfrm>
            <a:off x="1571760" y="3000240"/>
            <a:ext cx="578628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1" descr="sun7.JPG"/>
          <p:cNvPicPr/>
          <p:nvPr/>
        </p:nvPicPr>
        <p:blipFill>
          <a:blip r:embed="rId1"/>
          <a:stretch/>
        </p:blipFill>
        <p:spPr>
          <a:xfrm>
            <a:off x="0" y="0"/>
            <a:ext cx="3643200" cy="335772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7" descr="sun6.JPG"/>
          <p:cNvPicPr/>
          <p:nvPr/>
        </p:nvPicPr>
        <p:blipFill>
          <a:blip r:embed="rId2"/>
          <a:stretch/>
        </p:blipFill>
        <p:spPr>
          <a:xfrm>
            <a:off x="2786040" y="2332080"/>
            <a:ext cx="302112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2" descr="sun10.JPG"/>
          <p:cNvPicPr/>
          <p:nvPr/>
        </p:nvPicPr>
        <p:blipFill>
          <a:blip r:embed="rId3"/>
          <a:stretch/>
        </p:blipFill>
        <p:spPr>
          <a:xfrm>
            <a:off x="5278320" y="0"/>
            <a:ext cx="38656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12911.jpg"/>
          <p:cNvPicPr/>
          <p:nvPr/>
        </p:nvPicPr>
        <p:blipFill>
          <a:blip r:embed="rId1"/>
          <a:stretch/>
        </p:blipFill>
        <p:spPr>
          <a:xfrm>
            <a:off x="0" y="3929040"/>
            <a:ext cx="5143680" cy="2928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12914.jpg"/>
          <p:cNvPicPr/>
          <p:nvPr/>
        </p:nvPicPr>
        <p:blipFill>
          <a:blip r:embed="rId2"/>
          <a:stretch/>
        </p:blipFill>
        <p:spPr>
          <a:xfrm>
            <a:off x="4143240" y="714240"/>
            <a:ext cx="5000760" cy="31975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12918.jpg"/>
          <p:cNvPicPr/>
          <p:nvPr/>
        </p:nvPicPr>
        <p:blipFill>
          <a:blip r:embed="rId3"/>
          <a:stretch/>
        </p:blipFill>
        <p:spPr>
          <a:xfrm>
            <a:off x="0" y="714240"/>
            <a:ext cx="4143240" cy="32148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12921.jpg"/>
          <p:cNvPicPr/>
          <p:nvPr/>
        </p:nvPicPr>
        <p:blipFill>
          <a:blip r:embed="rId4"/>
          <a:stretch/>
        </p:blipFill>
        <p:spPr>
          <a:xfrm>
            <a:off x="5143680" y="3929040"/>
            <a:ext cx="4000320" cy="2928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85480" y="-360"/>
            <a:ext cx="84438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 gibt noch die Erholungseinrichtung “Parm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Syktywkar gibt es auch weitere Betrieb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s Furnierwe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 Gesellschaft “Syktywkar Tissju Grup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 Holzbearbeitungsbetri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s Hausbaukombin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 Fabrik des Faservlies “Komitek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3:18:16Z</dcterms:created>
  <dc:creator>Admin</dc:creator>
  <dc:description/>
  <dc:language>en-US</dc:language>
  <cp:lastModifiedBy>Admin</cp:lastModifiedBy>
  <dcterms:modified xsi:type="dcterms:W3CDTF">2012-06-08T17:59:48Z</dcterms:modified>
  <cp:revision>47</cp:revision>
  <dc:subject/>
  <dc:title>                                                                                                                                                                                                                        </dc:title>
</cp:coreProperties>
</file>